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2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002960" y="694800"/>
            <a:ext cx="478476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304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2"/>
          <p:cNvSpPr/>
          <p:nvPr/>
        </p:nvSpPr>
        <p:spPr>
          <a:xfrm>
            <a:off x="0" y="0"/>
            <a:ext cx="2916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43"/>
          <p:cNvSpPr/>
          <p:nvPr/>
        </p:nvSpPr>
        <p:spPr>
          <a:xfrm>
            <a:off x="3881520" y="0"/>
            <a:ext cx="291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44"/>
          <p:cNvSpPr/>
          <p:nvPr/>
        </p:nvSpPr>
        <p:spPr>
          <a:xfrm>
            <a:off x="0" y="8686800"/>
            <a:ext cx="2916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1"/>
          </p:nvPr>
        </p:nvSpPr>
        <p:spPr>
          <a:xfrm>
            <a:off x="3881520" y="8686800"/>
            <a:ext cx="291312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8938F4-2CA2-4EC6-8E0D-3730E16A8B79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45"/>
          <p:cNvSpPr/>
          <p:nvPr/>
        </p:nvSpPr>
        <p:spPr>
          <a:xfrm>
            <a:off x="3881520" y="8686800"/>
            <a:ext cx="2913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7A84AC-7EDF-4F8E-8E0A-72CEFE966B12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1"/>
          <p:cNvSpPr/>
          <p:nvPr/>
        </p:nvSpPr>
        <p:spPr>
          <a:xfrm>
            <a:off x="3881520" y="8686800"/>
            <a:ext cx="29145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1A1940-700A-4DB7-91A7-0586E7B69807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3881520" y="8686800"/>
            <a:ext cx="291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BEB46B-3FFC-4E2C-9728-9E9DE007E3E3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45"/>
          <p:cNvSpPr/>
          <p:nvPr/>
        </p:nvSpPr>
        <p:spPr>
          <a:xfrm>
            <a:off x="3881520" y="8686800"/>
            <a:ext cx="2913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7117C6-79E2-4A6E-B0D5-B8FB549E6B59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3881520" y="8686800"/>
            <a:ext cx="29145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1CEE86-EFF5-4380-8B45-22789EF1C7B6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50920" y="695160"/>
            <a:ext cx="4492800" cy="33688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45"/>
          <p:cNvSpPr/>
          <p:nvPr/>
        </p:nvSpPr>
        <p:spPr>
          <a:xfrm>
            <a:off x="3881520" y="8686800"/>
            <a:ext cx="2913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A2BED0-E76C-4CCD-89CE-A63752E146C5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50920" y="695160"/>
            <a:ext cx="4491000" cy="33670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448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45"/>
          <p:cNvSpPr/>
          <p:nvPr/>
        </p:nvSpPr>
        <p:spPr>
          <a:xfrm>
            <a:off x="3881520" y="8686800"/>
            <a:ext cx="2913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E64122-A6C4-4FFA-BA04-6F0C97C875B9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50920" y="695160"/>
            <a:ext cx="4491000" cy="33670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448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45"/>
          <p:cNvSpPr/>
          <p:nvPr/>
        </p:nvSpPr>
        <p:spPr>
          <a:xfrm>
            <a:off x="3881520" y="8686800"/>
            <a:ext cx="2913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3AA9C5-4969-4C17-9077-4ADE19EEDED5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50920" y="695160"/>
            <a:ext cx="4491000" cy="336708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448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45"/>
          <p:cNvSpPr/>
          <p:nvPr/>
        </p:nvSpPr>
        <p:spPr>
          <a:xfrm>
            <a:off x="3881520" y="8686800"/>
            <a:ext cx="2913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D1BF23-4739-4882-AB11-DA5FF5E771AF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1"/>
          <p:cNvSpPr/>
          <p:nvPr/>
        </p:nvSpPr>
        <p:spPr>
          <a:xfrm>
            <a:off x="3881520" y="8686800"/>
            <a:ext cx="29145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278A38-36A8-4FF2-BCD7-3007BDCF1845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50920" y="695160"/>
            <a:ext cx="4492800" cy="336888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45"/>
          <p:cNvSpPr/>
          <p:nvPr/>
        </p:nvSpPr>
        <p:spPr>
          <a:xfrm>
            <a:off x="3881520" y="8686800"/>
            <a:ext cx="2913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3877A8-55FC-4F7F-B812-B58845063B96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50920" y="695160"/>
            <a:ext cx="4491000" cy="33670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448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45"/>
          <p:cNvSpPr/>
          <p:nvPr/>
        </p:nvSpPr>
        <p:spPr>
          <a:xfrm>
            <a:off x="3881520" y="8686800"/>
            <a:ext cx="2913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E5D414-B3FB-4396-B577-C1685E2B3A6B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50920" y="695160"/>
            <a:ext cx="4491000" cy="33670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448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6920" y="301680"/>
            <a:ext cx="8107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6920" y="1599840"/>
            <a:ext cx="81075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6920" y="3590280"/>
            <a:ext cx="81075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6920" y="301680"/>
            <a:ext cx="8107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6920" y="1599840"/>
            <a:ext cx="3956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41680" y="1599840"/>
            <a:ext cx="3956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6920" y="3590280"/>
            <a:ext cx="3956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41680" y="3590280"/>
            <a:ext cx="3956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6920" y="301680"/>
            <a:ext cx="8107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6920" y="1599840"/>
            <a:ext cx="2610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28320" y="1599840"/>
            <a:ext cx="2610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69360" y="1599840"/>
            <a:ext cx="2610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6920" y="3590280"/>
            <a:ext cx="2610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28320" y="3590280"/>
            <a:ext cx="2610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69360" y="3590280"/>
            <a:ext cx="2610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6920" y="301680"/>
            <a:ext cx="8107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6920" y="1599840"/>
            <a:ext cx="81075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18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6920" y="301680"/>
            <a:ext cx="8107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6920" y="1599840"/>
            <a:ext cx="81075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6920" y="301680"/>
            <a:ext cx="8107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6920" y="1599840"/>
            <a:ext cx="3956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441680" y="1599840"/>
            <a:ext cx="3956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6920" y="301680"/>
            <a:ext cx="8107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6920" y="301680"/>
            <a:ext cx="810756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18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6920" y="301680"/>
            <a:ext cx="8107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6920" y="1599840"/>
            <a:ext cx="3956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441680" y="1599840"/>
            <a:ext cx="3956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6920" y="3590280"/>
            <a:ext cx="3956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6920" y="301680"/>
            <a:ext cx="8107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6920" y="1599840"/>
            <a:ext cx="81075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18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6920" y="301680"/>
            <a:ext cx="8107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6920" y="1599840"/>
            <a:ext cx="3956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441680" y="1599840"/>
            <a:ext cx="3956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441680" y="3590280"/>
            <a:ext cx="3956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6920" y="301680"/>
            <a:ext cx="8107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6920" y="1599840"/>
            <a:ext cx="3956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41680" y="1599840"/>
            <a:ext cx="3956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6920" y="3590280"/>
            <a:ext cx="81075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6920" y="301680"/>
            <a:ext cx="8107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6920" y="1599840"/>
            <a:ext cx="81075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6920" y="3590280"/>
            <a:ext cx="81075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6920" y="301680"/>
            <a:ext cx="8107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6920" y="1599840"/>
            <a:ext cx="3956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441680" y="1599840"/>
            <a:ext cx="3956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6920" y="3590280"/>
            <a:ext cx="3956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441680" y="3590280"/>
            <a:ext cx="3956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6920" y="301680"/>
            <a:ext cx="8107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6920" y="1599840"/>
            <a:ext cx="2610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28320" y="1599840"/>
            <a:ext cx="2610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769360" y="1599840"/>
            <a:ext cx="2610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6920" y="3590280"/>
            <a:ext cx="2610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28320" y="3590280"/>
            <a:ext cx="2610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769360" y="3590280"/>
            <a:ext cx="2610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6920" y="301680"/>
            <a:ext cx="8107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6920" y="1599840"/>
            <a:ext cx="81075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6920" y="301680"/>
            <a:ext cx="8107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6920" y="1599840"/>
            <a:ext cx="3956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41680" y="1599840"/>
            <a:ext cx="3956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6920" y="301680"/>
            <a:ext cx="8107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6920" y="301680"/>
            <a:ext cx="810756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18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6920" y="301680"/>
            <a:ext cx="8107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6920" y="1599840"/>
            <a:ext cx="3956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41680" y="1599840"/>
            <a:ext cx="3956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6920" y="3590280"/>
            <a:ext cx="3956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6920" y="301680"/>
            <a:ext cx="8107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6920" y="1599840"/>
            <a:ext cx="3956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41680" y="1599840"/>
            <a:ext cx="3956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41680" y="3590280"/>
            <a:ext cx="3956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6920" y="301680"/>
            <a:ext cx="8107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6920" y="1599840"/>
            <a:ext cx="3956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41680" y="1599840"/>
            <a:ext cx="3956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6920" y="3590280"/>
            <a:ext cx="81075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6920" y="301680"/>
            <a:ext cx="8107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6920" y="1599840"/>
            <a:ext cx="81075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ts val="18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lnSpc>
                <a:spcPts val="18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lnSpc>
                <a:spcPts val="18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lnSpc>
                <a:spcPts val="18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lnSpc>
                <a:spcPts val="18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lnSpc>
                <a:spcPts val="18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5778360" y="6732720"/>
            <a:ext cx="3365640" cy="12528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0" y="6732720"/>
            <a:ext cx="5784840" cy="12528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Line 5"/>
          <p:cNvSpPr/>
          <p:nvPr/>
        </p:nvSpPr>
        <p:spPr>
          <a:xfrm>
            <a:off x="228600" y="6116760"/>
            <a:ext cx="8686800" cy="144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2"/>
          <a:stretch/>
        </p:blipFill>
        <p:spPr>
          <a:xfrm>
            <a:off x="228600" y="6159600"/>
            <a:ext cx="4094280" cy="54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6920" y="3997080"/>
            <a:ext cx="63356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0" y="635040"/>
            <a:ext cx="6095880" cy="71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9991800" y="4389480"/>
            <a:ext cx="183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5778360" y="6732720"/>
            <a:ext cx="3365640" cy="12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0" y="6605640"/>
            <a:ext cx="5784840" cy="2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0866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18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ts val="18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lnSpc>
                <a:spcPts val="18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lnSpc>
                <a:spcPts val="18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lnSpc>
                <a:spcPts val="18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lnSpc>
                <a:spcPts val="18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lnSpc>
                <a:spcPts val="18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7" descr=""/>
          <p:cNvPicPr/>
          <p:nvPr/>
        </p:nvPicPr>
        <p:blipFill>
          <a:blip r:embed="rId2"/>
          <a:stretch/>
        </p:blipFill>
        <p:spPr>
          <a:xfrm>
            <a:off x="422280" y="415800"/>
            <a:ext cx="7515360" cy="1008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89080" y="5661000"/>
            <a:ext cx="862632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4880" bIns="46800" anchor="t">
            <a:noAutofit/>
          </a:bodyPr>
          <a:p>
            <a:pPr>
              <a:lnSpc>
                <a:spcPct val="86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6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Helmholtz Zentrum Münche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Institute of Human Genetics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0.07.2012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0" y="31719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8209080" y="476280"/>
            <a:ext cx="858600" cy="7729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"/>
          <p:cNvSpPr/>
          <p:nvPr/>
        </p:nvSpPr>
        <p:spPr>
          <a:xfrm>
            <a:off x="6367320" y="611280"/>
            <a:ext cx="27003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de-DE" sz="1800" spc="-1" strike="noStrike">
                <a:solidFill>
                  <a:srgbClr val="1779bb"/>
                </a:solidFill>
                <a:latin typeface="Arial"/>
              </a:rPr>
              <a:t>Institute </a:t>
            </a:r>
            <a:r>
              <a:rPr b="0" i="1" lang="en-US" sz="1800" spc="-1" strike="noStrike">
                <a:solidFill>
                  <a:srgbClr val="1779bb"/>
                </a:solidFill>
                <a:latin typeface="Arial"/>
              </a:rPr>
              <a:t>of</a:t>
            </a:r>
            <a:r>
              <a:rPr b="0" i="1" lang="de-DE" sz="1800" spc="-1" strike="noStrike">
                <a:solidFill>
                  <a:srgbClr val="1779b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de-DE" sz="1800" spc="-1" strike="noStrike">
                <a:solidFill>
                  <a:srgbClr val="1779bb"/>
                </a:solidFill>
                <a:latin typeface="Arial"/>
              </a:rPr>
              <a:t>Human Genet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287280" y="3997440"/>
            <a:ext cx="633888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395280" y="3174840"/>
            <a:ext cx="84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4800" spc="-1" strike="noStrike">
                <a:solidFill>
                  <a:srgbClr val="000000"/>
                </a:solidFill>
                <a:latin typeface="Arial"/>
              </a:rPr>
              <a:t>Variant Cal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87280" y="301680"/>
            <a:ext cx="811044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th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37"/>
          <p:cNvSpPr/>
          <p:nvPr/>
        </p:nvSpPr>
        <p:spPr>
          <a:xfrm>
            <a:off x="2195640" y="4437000"/>
            <a:ext cx="4176720" cy="115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Samt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Multisample Variant Cal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ounded Rectangle 43"/>
          <p:cNvSpPr/>
          <p:nvPr/>
        </p:nvSpPr>
        <p:spPr>
          <a:xfrm>
            <a:off x="468360" y="2708280"/>
            <a:ext cx="12952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HG0011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ab1 B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ounded Rectangle 44"/>
          <p:cNvSpPr/>
          <p:nvPr/>
        </p:nvSpPr>
        <p:spPr>
          <a:xfrm>
            <a:off x="539640" y="2492280"/>
            <a:ext cx="129564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HG0011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ab2 B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ounded Rectangle 45"/>
          <p:cNvSpPr/>
          <p:nvPr/>
        </p:nvSpPr>
        <p:spPr>
          <a:xfrm>
            <a:off x="620640" y="2276640"/>
            <a:ext cx="129564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HG0011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ab3 B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ounded Rectangle 46"/>
          <p:cNvSpPr/>
          <p:nvPr/>
        </p:nvSpPr>
        <p:spPr>
          <a:xfrm>
            <a:off x="684360" y="2060640"/>
            <a:ext cx="12952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HG0011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ab4 B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ounded Rectangle 47"/>
          <p:cNvSpPr/>
          <p:nvPr/>
        </p:nvSpPr>
        <p:spPr>
          <a:xfrm>
            <a:off x="773280" y="1844640"/>
            <a:ext cx="12952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HG0011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ab5 B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ounded Rectangle 50"/>
          <p:cNvSpPr/>
          <p:nvPr/>
        </p:nvSpPr>
        <p:spPr>
          <a:xfrm>
            <a:off x="826920" y="1628640"/>
            <a:ext cx="12970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HG0011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ab6 B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ounded Rectangle 51"/>
          <p:cNvSpPr/>
          <p:nvPr/>
        </p:nvSpPr>
        <p:spPr>
          <a:xfrm>
            <a:off x="900000" y="1413000"/>
            <a:ext cx="129564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HG0011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ab7 B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ounded Rectangle 52"/>
          <p:cNvSpPr/>
          <p:nvPr/>
        </p:nvSpPr>
        <p:spPr>
          <a:xfrm>
            <a:off x="2050920" y="2708280"/>
            <a:ext cx="12970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HG0011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ab1 B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ounded Rectangle 53"/>
          <p:cNvSpPr/>
          <p:nvPr/>
        </p:nvSpPr>
        <p:spPr>
          <a:xfrm>
            <a:off x="2124000" y="2492280"/>
            <a:ext cx="129564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HG0011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ab2 B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ounded Rectangle 54"/>
          <p:cNvSpPr/>
          <p:nvPr/>
        </p:nvSpPr>
        <p:spPr>
          <a:xfrm>
            <a:off x="2203560" y="2276640"/>
            <a:ext cx="129672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HG0011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ab3 B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ounded Rectangle 55"/>
          <p:cNvSpPr/>
          <p:nvPr/>
        </p:nvSpPr>
        <p:spPr>
          <a:xfrm>
            <a:off x="2268360" y="2060640"/>
            <a:ext cx="129564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HG0011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ab4 B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ounded Rectangle 56"/>
          <p:cNvSpPr/>
          <p:nvPr/>
        </p:nvSpPr>
        <p:spPr>
          <a:xfrm>
            <a:off x="2355840" y="1844640"/>
            <a:ext cx="12970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HG0011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ab5 B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ounded Rectangle 57"/>
          <p:cNvSpPr/>
          <p:nvPr/>
        </p:nvSpPr>
        <p:spPr>
          <a:xfrm>
            <a:off x="2411280" y="1628640"/>
            <a:ext cx="12970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HG0011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ab6 B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ounded Rectangle 58"/>
          <p:cNvSpPr/>
          <p:nvPr/>
        </p:nvSpPr>
        <p:spPr>
          <a:xfrm>
            <a:off x="2484360" y="1413000"/>
            <a:ext cx="129564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HG0035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ab7 B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ounded Rectangle 59"/>
          <p:cNvSpPr/>
          <p:nvPr/>
        </p:nvSpPr>
        <p:spPr>
          <a:xfrm>
            <a:off x="3635280" y="2708280"/>
            <a:ext cx="12970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HG0011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ab1 B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ounded Rectangle 60"/>
          <p:cNvSpPr/>
          <p:nvPr/>
        </p:nvSpPr>
        <p:spPr>
          <a:xfrm>
            <a:off x="3708360" y="2492280"/>
            <a:ext cx="12952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HG0011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ab2 B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ounded Rectangle 61"/>
          <p:cNvSpPr/>
          <p:nvPr/>
        </p:nvSpPr>
        <p:spPr>
          <a:xfrm>
            <a:off x="3787920" y="2276640"/>
            <a:ext cx="129672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HG0011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ab3 B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ounded Rectangle 62"/>
          <p:cNvSpPr/>
          <p:nvPr/>
        </p:nvSpPr>
        <p:spPr>
          <a:xfrm>
            <a:off x="3851280" y="2060640"/>
            <a:ext cx="12970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HG0011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ab4 B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ounded Rectangle 63"/>
          <p:cNvSpPr/>
          <p:nvPr/>
        </p:nvSpPr>
        <p:spPr>
          <a:xfrm>
            <a:off x="3940200" y="1844640"/>
            <a:ext cx="12970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HG0011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ab5 B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ounded Rectangle 64"/>
          <p:cNvSpPr/>
          <p:nvPr/>
        </p:nvSpPr>
        <p:spPr>
          <a:xfrm>
            <a:off x="3995640" y="1628640"/>
            <a:ext cx="12970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HG0011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ab6 B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ounded Rectangle 65"/>
          <p:cNvSpPr/>
          <p:nvPr/>
        </p:nvSpPr>
        <p:spPr>
          <a:xfrm>
            <a:off x="4067280" y="1413000"/>
            <a:ext cx="129672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NA0698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ab7 B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ounded Rectangle 66"/>
          <p:cNvSpPr/>
          <p:nvPr/>
        </p:nvSpPr>
        <p:spPr>
          <a:xfrm>
            <a:off x="5219640" y="2708280"/>
            <a:ext cx="12970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HG0011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ab1 B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ounded Rectangle 67"/>
          <p:cNvSpPr/>
          <p:nvPr/>
        </p:nvSpPr>
        <p:spPr>
          <a:xfrm>
            <a:off x="5292720" y="2492280"/>
            <a:ext cx="12952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HG0011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ab2 B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ounded Rectangle 68"/>
          <p:cNvSpPr/>
          <p:nvPr/>
        </p:nvSpPr>
        <p:spPr>
          <a:xfrm>
            <a:off x="5372280" y="2276640"/>
            <a:ext cx="129672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HG0011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ab3 B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ounded Rectangle 69"/>
          <p:cNvSpPr/>
          <p:nvPr/>
        </p:nvSpPr>
        <p:spPr>
          <a:xfrm>
            <a:off x="5435640" y="2060640"/>
            <a:ext cx="12970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HG0011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ab4 B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ounded Rectangle 70"/>
          <p:cNvSpPr/>
          <p:nvPr/>
        </p:nvSpPr>
        <p:spPr>
          <a:xfrm>
            <a:off x="5524560" y="1844640"/>
            <a:ext cx="12970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HG0011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ab5 B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ounded Rectangle 71"/>
          <p:cNvSpPr/>
          <p:nvPr/>
        </p:nvSpPr>
        <p:spPr>
          <a:xfrm>
            <a:off x="5580000" y="1628640"/>
            <a:ext cx="129564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HG0011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ab6 B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ounded Rectangle 72"/>
          <p:cNvSpPr/>
          <p:nvPr/>
        </p:nvSpPr>
        <p:spPr>
          <a:xfrm>
            <a:off x="5651640" y="1413000"/>
            <a:ext cx="129672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NA190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ab7 B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ounded Rectangle 73"/>
          <p:cNvSpPr/>
          <p:nvPr/>
        </p:nvSpPr>
        <p:spPr>
          <a:xfrm>
            <a:off x="6875640" y="2708280"/>
            <a:ext cx="129672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HG0011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ab1 B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ounded Rectangle 74"/>
          <p:cNvSpPr/>
          <p:nvPr/>
        </p:nvSpPr>
        <p:spPr>
          <a:xfrm>
            <a:off x="6948360" y="2492280"/>
            <a:ext cx="129564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HG0011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ab2 B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ounded Rectangle 75"/>
          <p:cNvSpPr/>
          <p:nvPr/>
        </p:nvSpPr>
        <p:spPr>
          <a:xfrm>
            <a:off x="7027920" y="2276640"/>
            <a:ext cx="129708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HG0011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ab3 B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ounded Rectangle 76"/>
          <p:cNvSpPr/>
          <p:nvPr/>
        </p:nvSpPr>
        <p:spPr>
          <a:xfrm>
            <a:off x="7093080" y="2060640"/>
            <a:ext cx="12952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HG0011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ab4 B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ounded Rectangle 77"/>
          <p:cNvSpPr/>
          <p:nvPr/>
        </p:nvSpPr>
        <p:spPr>
          <a:xfrm>
            <a:off x="7180200" y="1844640"/>
            <a:ext cx="12970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HG0011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ab5 B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ounded Rectangle 78"/>
          <p:cNvSpPr/>
          <p:nvPr/>
        </p:nvSpPr>
        <p:spPr>
          <a:xfrm>
            <a:off x="7236000" y="1628640"/>
            <a:ext cx="129672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HG0011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ab6 B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ounded Rectangle 79"/>
          <p:cNvSpPr/>
          <p:nvPr/>
        </p:nvSpPr>
        <p:spPr>
          <a:xfrm>
            <a:off x="7308720" y="1413000"/>
            <a:ext cx="129564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NA2052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ab7 B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4" name="Elbow Connector 81"/>
          <p:cNvCxnSpPr>
            <a:stCxn id="139" idx="2"/>
            <a:endCxn id="138" idx="0"/>
          </p:cNvCxnSpPr>
          <p:nvPr/>
        </p:nvCxnSpPr>
        <p:spPr>
          <a:xfrm flipH="1" rot="16200000">
            <a:off x="2122560" y="2276640"/>
            <a:ext cx="1152720" cy="3167640"/>
          </a:xfrm>
          <a:prstGeom prst="bentConnector3">
            <a:avLst>
              <a:gd name="adj1" fmla="val 49984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75" name="Elbow Connector 83"/>
          <p:cNvCxnSpPr>
            <a:stCxn id="146" idx="2"/>
            <a:endCxn id="138" idx="0"/>
          </p:cNvCxnSpPr>
          <p:nvPr/>
        </p:nvCxnSpPr>
        <p:spPr>
          <a:xfrm flipH="1" rot="16200000">
            <a:off x="2915640" y="3068640"/>
            <a:ext cx="1152720" cy="1583280"/>
          </a:xfrm>
          <a:prstGeom prst="bentConnector3">
            <a:avLst>
              <a:gd name="adj1" fmla="val 49984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76" name="Elbow Connector 85"/>
          <p:cNvCxnSpPr>
            <a:stCxn id="153" idx="2"/>
            <a:endCxn id="138" idx="0"/>
          </p:cNvCxnSpPr>
          <p:nvPr/>
        </p:nvCxnSpPr>
        <p:spPr>
          <a:xfrm rot="5400000">
            <a:off x="3706920" y="3859200"/>
            <a:ext cx="1152720" cy="2520"/>
          </a:xfrm>
          <a:prstGeom prst="bentConnector3">
            <a:avLst>
              <a:gd name="adj1" fmla="val 49984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77" name="Elbow Connector 87"/>
          <p:cNvCxnSpPr>
            <a:stCxn id="160" idx="2"/>
            <a:endCxn id="138" idx="0"/>
          </p:cNvCxnSpPr>
          <p:nvPr/>
        </p:nvCxnSpPr>
        <p:spPr>
          <a:xfrm rot="5400000">
            <a:off x="4498200" y="3067920"/>
            <a:ext cx="1152720" cy="1585080"/>
          </a:xfrm>
          <a:prstGeom prst="bentConnector3">
            <a:avLst>
              <a:gd name="adj1" fmla="val 49984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78" name="Elbow Connector 89"/>
          <p:cNvCxnSpPr>
            <a:stCxn id="167" idx="2"/>
            <a:endCxn id="138" idx="0"/>
          </p:cNvCxnSpPr>
          <p:nvPr/>
        </p:nvCxnSpPr>
        <p:spPr>
          <a:xfrm rot="5400000">
            <a:off x="5326920" y="2239200"/>
            <a:ext cx="1152720" cy="3242520"/>
          </a:xfrm>
          <a:prstGeom prst="bentConnector3">
            <a:avLst>
              <a:gd name="adj1" fmla="val 49984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1"/>
          <p:cNvSpPr/>
          <p:nvPr/>
        </p:nvSpPr>
        <p:spPr>
          <a:xfrm>
            <a:off x="287280" y="301680"/>
            <a:ext cx="810900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parison with 1000G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2"/>
          <p:cNvSpPr/>
          <p:nvPr/>
        </p:nvSpPr>
        <p:spPr>
          <a:xfrm>
            <a:off x="287280" y="1600200"/>
            <a:ext cx="810900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ts val="18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Verdana"/>
              </a:rPr>
              <a:t>Filtering of 1000G Variant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1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Verdana"/>
                <a:ea typeface="Arial"/>
              </a:rPr>
              <a:t>Gencode v12 Transcrip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1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Verdana"/>
                <a:ea typeface="Arial"/>
              </a:rPr>
              <a:t>Covered by at least one read in corresponding BAM fi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1000"/>
              </a:lnSpc>
              <a:spcBef>
                <a:spcPts val="1001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ts val="18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Verdana"/>
              </a:rPr>
              <a:t>Comparison of VCF files with custom Perl scrip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ts val="18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1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Verdana"/>
                <a:ea typeface="Arial"/>
              </a:rPr>
              <a:t>matching.vc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1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Verdana"/>
                <a:ea typeface="Arial"/>
              </a:rPr>
              <a:t>not_matching.vc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1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Verdana"/>
                <a:ea typeface="Arial"/>
              </a:rPr>
              <a:t>not_found.vc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1"/>
          <p:cNvSpPr/>
          <p:nvPr/>
        </p:nvSpPr>
        <p:spPr>
          <a:xfrm>
            <a:off x="287280" y="301680"/>
            <a:ext cx="810900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parison with 1000G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2"/>
          <p:cNvSpPr/>
          <p:nvPr/>
        </p:nvSpPr>
        <p:spPr>
          <a:xfrm>
            <a:off x="287280" y="1600200"/>
            <a:ext cx="810900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ts val="1800"/>
              </a:lnSpc>
              <a:spcBef>
                <a:spcPts val="1001"/>
              </a:spcBef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95280" y="2060640"/>
          <a:ext cx="8388360" cy="2193840"/>
        </p:xfrm>
        <a:graphic>
          <a:graphicData uri="http://schemas.openxmlformats.org/drawingml/2006/table">
            <a:tbl>
              <a:tblPr/>
              <a:tblGrid>
                <a:gridCol w="2097000"/>
                <a:gridCol w="1970280"/>
                <a:gridCol w="2224080"/>
                <a:gridCol w="2097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mp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rrectG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rongG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otFoundG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G001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69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9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922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G0035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619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20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9168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0698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168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1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962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1909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458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87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976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2052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788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6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9156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1"/>
          <p:cNvSpPr/>
          <p:nvPr/>
        </p:nvSpPr>
        <p:spPr>
          <a:xfrm>
            <a:off x="287280" y="301680"/>
            <a:ext cx="810900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parison with 1000G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358920" y="1600200"/>
            <a:ext cx="810864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ts val="1800"/>
              </a:lnSpc>
              <a:spcBef>
                <a:spcPts val="1001"/>
              </a:spcBef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4" descr="correct.png"/>
          <p:cNvPicPr/>
          <p:nvPr/>
        </p:nvPicPr>
        <p:blipFill>
          <a:blip r:embed="rId1"/>
          <a:stretch/>
        </p:blipFill>
        <p:spPr>
          <a:xfrm>
            <a:off x="216000" y="1616040"/>
            <a:ext cx="4321080" cy="4321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not_found.png"/>
          <p:cNvPicPr/>
          <p:nvPr/>
        </p:nvPicPr>
        <p:blipFill>
          <a:blip r:embed="rId2"/>
          <a:stretch/>
        </p:blipFill>
        <p:spPr>
          <a:xfrm>
            <a:off x="4716360" y="1628640"/>
            <a:ext cx="4319640" cy="4321440"/>
          </a:xfrm>
          <a:prstGeom prst="rect">
            <a:avLst/>
          </a:prstGeom>
          <a:ln w="0">
            <a:noFill/>
          </a:ln>
        </p:spPr>
      </p:pic>
      <p:sp>
        <p:nvSpPr>
          <p:cNvPr id="188" name="TextBox 7"/>
          <p:cNvSpPr/>
          <p:nvPr/>
        </p:nvSpPr>
        <p:spPr>
          <a:xfrm>
            <a:off x="1763640" y="1332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CorrectG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Box 8"/>
          <p:cNvSpPr/>
          <p:nvPr/>
        </p:nvSpPr>
        <p:spPr>
          <a:xfrm>
            <a:off x="6156360" y="1332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NotFoundG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Box 9"/>
          <p:cNvSpPr/>
          <p:nvPr/>
        </p:nvSpPr>
        <p:spPr>
          <a:xfrm>
            <a:off x="1619280" y="5754600"/>
            <a:ext cx="2305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number of rea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Box 10"/>
          <p:cNvSpPr/>
          <p:nvPr/>
        </p:nvSpPr>
        <p:spPr>
          <a:xfrm>
            <a:off x="6156360" y="5732640"/>
            <a:ext cx="23032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number of rea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TextBox 11" descr=""/>
          <p:cNvPicPr/>
          <p:nvPr/>
        </p:nvPicPr>
        <p:blipFill>
          <a:blip r:embed="rId3"/>
          <a:stretch/>
        </p:blipFill>
        <p:spPr>
          <a:xfrm>
            <a:off x="-30240" y="2352600"/>
            <a:ext cx="384120" cy="2365560"/>
          </a:xfrm>
          <a:prstGeom prst="rect">
            <a:avLst/>
          </a:prstGeom>
          <a:ln w="0">
            <a:noFill/>
          </a:ln>
        </p:spPr>
      </p:pic>
      <p:pic>
        <p:nvPicPr>
          <p:cNvPr id="193" name="TextBox 12" descr=""/>
          <p:cNvPicPr/>
          <p:nvPr/>
        </p:nvPicPr>
        <p:blipFill>
          <a:blip r:embed="rId4"/>
          <a:stretch/>
        </p:blipFill>
        <p:spPr>
          <a:xfrm>
            <a:off x="4505400" y="2335320"/>
            <a:ext cx="384120" cy="236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1"/>
          <p:cNvSpPr/>
          <p:nvPr/>
        </p:nvSpPr>
        <p:spPr>
          <a:xfrm>
            <a:off x="287280" y="301680"/>
            <a:ext cx="811044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th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38"/>
          <p:cNvSpPr/>
          <p:nvPr/>
        </p:nvSpPr>
        <p:spPr>
          <a:xfrm>
            <a:off x="4284720" y="4869000"/>
            <a:ext cx="100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6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65"/>
          <p:cNvSpPr/>
          <p:nvPr/>
        </p:nvSpPr>
        <p:spPr>
          <a:xfrm>
            <a:off x="324000" y="981000"/>
            <a:ext cx="7920000" cy="1800360"/>
          </a:xfrm>
          <a:prstGeom prst="rect">
            <a:avLst/>
          </a:pr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37"/>
          <p:cNvSpPr/>
          <p:nvPr/>
        </p:nvSpPr>
        <p:spPr>
          <a:xfrm>
            <a:off x="2340000" y="1989000"/>
            <a:ext cx="374328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Samt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Multisample Variant Cal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ounded Rectangle 40"/>
          <p:cNvSpPr/>
          <p:nvPr/>
        </p:nvSpPr>
        <p:spPr>
          <a:xfrm>
            <a:off x="395280" y="1052640"/>
            <a:ext cx="129708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HG0011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ab1 B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ounded Rectangle 41"/>
          <p:cNvSpPr/>
          <p:nvPr/>
        </p:nvSpPr>
        <p:spPr>
          <a:xfrm>
            <a:off x="1979640" y="1052640"/>
            <a:ext cx="129708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HG0035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ab1 B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ounded Rectangle 42"/>
          <p:cNvSpPr/>
          <p:nvPr/>
        </p:nvSpPr>
        <p:spPr>
          <a:xfrm>
            <a:off x="3564000" y="1052640"/>
            <a:ext cx="129528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NA0698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ab1 B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ounded Rectangle 43"/>
          <p:cNvSpPr/>
          <p:nvPr/>
        </p:nvSpPr>
        <p:spPr>
          <a:xfrm>
            <a:off x="5148360" y="1052640"/>
            <a:ext cx="129528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NA190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ab1 B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ounded Rectangle 44"/>
          <p:cNvSpPr/>
          <p:nvPr/>
        </p:nvSpPr>
        <p:spPr>
          <a:xfrm>
            <a:off x="6804000" y="1052640"/>
            <a:ext cx="129708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NA2052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ab1 B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3" name="Elbow Connector 45"/>
          <p:cNvCxnSpPr>
            <a:stCxn id="198" idx="2"/>
            <a:endCxn id="197" idx="0"/>
          </p:cNvCxnSpPr>
          <p:nvPr/>
        </p:nvCxnSpPr>
        <p:spPr>
          <a:xfrm flipH="1" rot="16200000">
            <a:off x="2446920" y="223920"/>
            <a:ext cx="361080" cy="31694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04" name="Elbow Connector 46"/>
          <p:cNvCxnSpPr>
            <a:stCxn id="199" idx="2"/>
            <a:endCxn id="197" idx="0"/>
          </p:cNvCxnSpPr>
          <p:nvPr/>
        </p:nvCxnSpPr>
        <p:spPr>
          <a:xfrm flipH="1" rot="16200000">
            <a:off x="3238200" y="1016280"/>
            <a:ext cx="361080" cy="1585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05" name="Elbow Connector 47"/>
          <p:cNvCxnSpPr>
            <a:stCxn id="200" idx="2"/>
            <a:endCxn id="197" idx="0"/>
          </p:cNvCxnSpPr>
          <p:nvPr/>
        </p:nvCxnSpPr>
        <p:spPr>
          <a:xfrm rot="5400000">
            <a:off x="4030920" y="1808280"/>
            <a:ext cx="361080" cy="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06" name="Elbow Connector 48"/>
          <p:cNvCxnSpPr>
            <a:stCxn id="201" idx="2"/>
            <a:endCxn id="197" idx="0"/>
          </p:cNvCxnSpPr>
          <p:nvPr/>
        </p:nvCxnSpPr>
        <p:spPr>
          <a:xfrm rot="5400000">
            <a:off x="4822920" y="1016280"/>
            <a:ext cx="361080" cy="1585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07" name="Elbow Connector 49"/>
          <p:cNvCxnSpPr>
            <a:stCxn id="202" idx="2"/>
            <a:endCxn id="197" idx="0"/>
          </p:cNvCxnSpPr>
          <p:nvPr/>
        </p:nvCxnSpPr>
        <p:spPr>
          <a:xfrm rot="5400000">
            <a:off x="5650920" y="188640"/>
            <a:ext cx="361080" cy="3240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08" name="Rectangle 66"/>
          <p:cNvSpPr/>
          <p:nvPr/>
        </p:nvSpPr>
        <p:spPr>
          <a:xfrm>
            <a:off x="476280" y="2060640"/>
            <a:ext cx="7920000" cy="18000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37"/>
          <p:cNvSpPr/>
          <p:nvPr/>
        </p:nvSpPr>
        <p:spPr>
          <a:xfrm>
            <a:off x="2492280" y="3068640"/>
            <a:ext cx="37432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Samt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Multisample Variant Cal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ounded Rectangle 68"/>
          <p:cNvSpPr/>
          <p:nvPr/>
        </p:nvSpPr>
        <p:spPr>
          <a:xfrm>
            <a:off x="547560" y="2133720"/>
            <a:ext cx="1297080" cy="57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HG0011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ab2 B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ounded Rectangle 69"/>
          <p:cNvSpPr/>
          <p:nvPr/>
        </p:nvSpPr>
        <p:spPr>
          <a:xfrm>
            <a:off x="2131920" y="2133720"/>
            <a:ext cx="1297080" cy="57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HG0035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ab2 B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ounded Rectangle 70"/>
          <p:cNvSpPr/>
          <p:nvPr/>
        </p:nvSpPr>
        <p:spPr>
          <a:xfrm>
            <a:off x="3716280" y="2133720"/>
            <a:ext cx="1295280" cy="57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NA0698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ab2 B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ounded Rectangle 71"/>
          <p:cNvSpPr/>
          <p:nvPr/>
        </p:nvSpPr>
        <p:spPr>
          <a:xfrm>
            <a:off x="5300640" y="2133720"/>
            <a:ext cx="1295280" cy="57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NA190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ab2 B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ounded Rectangle 72"/>
          <p:cNvSpPr/>
          <p:nvPr/>
        </p:nvSpPr>
        <p:spPr>
          <a:xfrm>
            <a:off x="6956280" y="2133720"/>
            <a:ext cx="1297080" cy="57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NA2052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ab2 B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5" name="Elbow Connector 73"/>
          <p:cNvCxnSpPr>
            <a:stCxn id="210" idx="2"/>
            <a:endCxn id="209" idx="0"/>
          </p:cNvCxnSpPr>
          <p:nvPr/>
        </p:nvCxnSpPr>
        <p:spPr>
          <a:xfrm flipH="1" rot="16200000">
            <a:off x="2598480" y="1303920"/>
            <a:ext cx="361080" cy="3169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16" name="Elbow Connector 74"/>
          <p:cNvCxnSpPr>
            <a:stCxn id="211" idx="2"/>
            <a:endCxn id="209" idx="0"/>
          </p:cNvCxnSpPr>
          <p:nvPr/>
        </p:nvCxnSpPr>
        <p:spPr>
          <a:xfrm flipH="1" rot="16200000">
            <a:off x="3390480" y="2095920"/>
            <a:ext cx="361080" cy="1585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17" name="Elbow Connector 75"/>
          <p:cNvCxnSpPr>
            <a:stCxn id="212" idx="2"/>
            <a:endCxn id="209" idx="0"/>
          </p:cNvCxnSpPr>
          <p:nvPr/>
        </p:nvCxnSpPr>
        <p:spPr>
          <a:xfrm rot="5400000">
            <a:off x="4183200" y="2887920"/>
            <a:ext cx="361080" cy="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18" name="Elbow Connector 76"/>
          <p:cNvCxnSpPr>
            <a:stCxn id="213" idx="2"/>
            <a:endCxn id="209" idx="0"/>
          </p:cNvCxnSpPr>
          <p:nvPr/>
        </p:nvCxnSpPr>
        <p:spPr>
          <a:xfrm rot="5400000">
            <a:off x="4975200" y="2095920"/>
            <a:ext cx="361080" cy="1585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19" name="Elbow Connector 77"/>
          <p:cNvCxnSpPr>
            <a:stCxn id="214" idx="2"/>
            <a:endCxn id="209" idx="0"/>
          </p:cNvCxnSpPr>
          <p:nvPr/>
        </p:nvCxnSpPr>
        <p:spPr>
          <a:xfrm rot="5400000">
            <a:off x="5803200" y="1267920"/>
            <a:ext cx="361080" cy="324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20" name="Rectangle 79"/>
          <p:cNvSpPr/>
          <p:nvPr/>
        </p:nvSpPr>
        <p:spPr>
          <a:xfrm>
            <a:off x="628560" y="3141720"/>
            <a:ext cx="7920000" cy="18000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37"/>
          <p:cNvSpPr/>
          <p:nvPr/>
        </p:nvSpPr>
        <p:spPr>
          <a:xfrm>
            <a:off x="2644920" y="4149720"/>
            <a:ext cx="374328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Samt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Multisample Variant Cal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ounded Rectangle 81"/>
          <p:cNvSpPr/>
          <p:nvPr/>
        </p:nvSpPr>
        <p:spPr>
          <a:xfrm>
            <a:off x="700200" y="3213000"/>
            <a:ext cx="129672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HG0011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ab3 B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ounded Rectangle 82"/>
          <p:cNvSpPr/>
          <p:nvPr/>
        </p:nvSpPr>
        <p:spPr>
          <a:xfrm>
            <a:off x="2284560" y="3213000"/>
            <a:ext cx="129672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HG0035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ab3 B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ounded Rectangle 83"/>
          <p:cNvSpPr/>
          <p:nvPr/>
        </p:nvSpPr>
        <p:spPr>
          <a:xfrm>
            <a:off x="3868560" y="3213000"/>
            <a:ext cx="129564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NA0698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ab3 B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ounded Rectangle 84"/>
          <p:cNvSpPr/>
          <p:nvPr/>
        </p:nvSpPr>
        <p:spPr>
          <a:xfrm>
            <a:off x="5452920" y="3213000"/>
            <a:ext cx="129564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NA190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ab3 B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ounded Rectangle 85"/>
          <p:cNvSpPr/>
          <p:nvPr/>
        </p:nvSpPr>
        <p:spPr>
          <a:xfrm>
            <a:off x="7108920" y="3213000"/>
            <a:ext cx="129672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NA2052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ab3 B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7" name="Elbow Connector 86"/>
          <p:cNvCxnSpPr>
            <a:stCxn id="222" idx="2"/>
            <a:endCxn id="221" idx="0"/>
          </p:cNvCxnSpPr>
          <p:nvPr/>
        </p:nvCxnSpPr>
        <p:spPr>
          <a:xfrm flipH="1" rot="16200000">
            <a:off x="2751840" y="2384640"/>
            <a:ext cx="361080" cy="31694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28" name="Elbow Connector 87"/>
          <p:cNvCxnSpPr>
            <a:stCxn id="223" idx="2"/>
            <a:endCxn id="221" idx="0"/>
          </p:cNvCxnSpPr>
          <p:nvPr/>
        </p:nvCxnSpPr>
        <p:spPr>
          <a:xfrm flipH="1" rot="16200000">
            <a:off x="3543120" y="3177000"/>
            <a:ext cx="361080" cy="1585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29" name="Elbow Connector 88"/>
          <p:cNvCxnSpPr>
            <a:stCxn id="224" idx="2"/>
            <a:endCxn id="221" idx="0"/>
          </p:cNvCxnSpPr>
          <p:nvPr/>
        </p:nvCxnSpPr>
        <p:spPr>
          <a:xfrm rot="5400000">
            <a:off x="4335840" y="3969000"/>
            <a:ext cx="361080" cy="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30" name="Elbow Connector 89"/>
          <p:cNvCxnSpPr>
            <a:stCxn id="225" idx="2"/>
            <a:endCxn id="221" idx="0"/>
          </p:cNvCxnSpPr>
          <p:nvPr/>
        </p:nvCxnSpPr>
        <p:spPr>
          <a:xfrm rot="5400000">
            <a:off x="5127840" y="3177000"/>
            <a:ext cx="361080" cy="1585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31" name="Elbow Connector 90"/>
          <p:cNvCxnSpPr>
            <a:stCxn id="226" idx="2"/>
            <a:endCxn id="221" idx="0"/>
          </p:cNvCxnSpPr>
          <p:nvPr/>
        </p:nvCxnSpPr>
        <p:spPr>
          <a:xfrm rot="5400000">
            <a:off x="5955840" y="2349360"/>
            <a:ext cx="361080" cy="3240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1"/>
          <p:cNvSpPr/>
          <p:nvPr/>
        </p:nvSpPr>
        <p:spPr>
          <a:xfrm>
            <a:off x="287280" y="301680"/>
            <a:ext cx="810900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nown RNA editing si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2"/>
          <p:cNvSpPr/>
          <p:nvPr/>
        </p:nvSpPr>
        <p:spPr>
          <a:xfrm>
            <a:off x="287280" y="1600200"/>
            <a:ext cx="810900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ts val="1800"/>
              </a:lnSpc>
              <a:spcBef>
                <a:spcPts val="1001"/>
              </a:spcBef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547640" y="963720"/>
          <a:ext cx="6096240" cy="4711680"/>
        </p:xfrm>
        <a:graphic>
          <a:graphicData uri="http://schemas.openxmlformats.org/drawingml/2006/table">
            <a:tbl>
              <a:tblPr/>
              <a:tblGrid>
                <a:gridCol w="1016280"/>
                <a:gridCol w="1015920"/>
                <a:gridCol w="1015920"/>
                <a:gridCol w="1015920"/>
                <a:gridCol w="1016280"/>
                <a:gridCol w="1015920"/>
              </a:tblGrid>
              <a:tr h="428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rom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itio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read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verlap with 1000G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verag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cc"/>
                    </a:solidFill>
                  </a:tcPr>
                </a:tc>
              </a:tr>
              <a:tr h="306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825787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IA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</a:tr>
              <a:tr h="306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828129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IA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</a:tr>
              <a:tr h="304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97623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FBP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</a:tr>
              <a:tr h="306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97628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FBP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</a:tr>
              <a:tr h="306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73680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FIP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7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</a:tr>
              <a:tr h="306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1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80469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IA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</a:tr>
              <a:tr h="304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1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2174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CNA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</a:tr>
              <a:tr h="306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2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14753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CAP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6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</a:tr>
              <a:tr h="306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2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14756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CAP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3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</a:tr>
              <a:tr h="304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2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14757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CAP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</a:tr>
              <a:tr h="306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2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95375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IK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</a:tr>
              <a:tr h="306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X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59896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I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</a:tr>
              <a:tr h="306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X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135831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BRA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3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</a:tr>
              <a:tr h="304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X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357995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N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sp>
        <p:nvSpPr>
          <p:cNvPr id="235" name="TextBox 5"/>
          <p:cNvSpPr/>
          <p:nvPr/>
        </p:nvSpPr>
        <p:spPr>
          <a:xfrm>
            <a:off x="1619280" y="5732640"/>
            <a:ext cx="331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i et al., Science, 20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1"/>
          <p:cNvSpPr/>
          <p:nvPr/>
        </p:nvSpPr>
        <p:spPr>
          <a:xfrm>
            <a:off x="287280" y="301680"/>
            <a:ext cx="810900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ture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287280" y="1600200"/>
            <a:ext cx="810900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ts val="18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Verdana"/>
              </a:rPr>
              <a:t>Multi Sample calling on all GEM BAM fi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ts val="18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ts val="18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Verdana"/>
              </a:rPr>
              <a:t>Systematic analysis of not_found/not_matching cal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ts val="18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ts val="18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Verdana"/>
              </a:rPr>
              <a:t>Comparison with imputation data (and future phase 2 data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ts val="18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ts val="18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Verdana"/>
              </a:rPr>
              <a:t>Systematik calling of RNA editing sites </a:t>
            </a:r>
            <a:r>
              <a:rPr b="0" lang="de-AT" sz="1100" spc="-1" strike="noStrike">
                <a:solidFill>
                  <a:srgbClr val="000000"/>
                </a:solidFill>
                <a:latin typeface="Verdana"/>
              </a:rPr>
              <a:t>(e.g. Ramaswami et al., Nature Methods, 2012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oller</dc:creator>
  <dc:description/>
  <dc:language>en-US</dc:language>
  <cp:lastModifiedBy>tom</cp:lastModifiedBy>
  <dcterms:modified xsi:type="dcterms:W3CDTF">2012-07-10T07:10:20Z</dcterms:modified>
  <cp:revision>514</cp:revision>
  <dc:subject/>
  <dc:title>Folie 1</dc:title>
</cp:coreProperties>
</file>